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582-B8B2-48D6-8E09-AA5C9390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3D0-6DF9-49A3-8686-510B7BD2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F2B-EFC4-4659-B691-7DB73065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C27-A5AB-4F4F-B0A0-DA046DD2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B9EB-6CD7-484D-AC0D-4F8B8493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E6B4-2A7C-456D-80B4-C4340BF6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39BD-8B15-41FC-9C5F-15B1FFBE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8774-9DA6-4323-9A60-0C0F51A8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4721-3E99-4338-B6AE-933DE0D4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5A22-F7A1-4FBD-B6D9-E194CD3E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ADFE-0AEB-409B-B474-EEAF467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FE7-0B05-4CBE-AE0D-315D19C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30F0-062B-445B-9E47-AEF57300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4913-7E92-43A2-BA33-EA71306B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55A5-3D86-4FF3-9D26-E92A3415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02CC-B696-4AE5-B729-18A1346B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2229-DA01-480F-814E-2E501B74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D5D-2F5A-4C4B-9EE7-DC965625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746-AD17-49E4-A3BF-26B00F0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581-0E14-4769-AD52-0AD3F33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082-2C06-463E-AA73-3C2F76F9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7C3-CD8E-4939-9421-DDA211E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66C-501F-415A-A81F-71D05F6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560-7BFA-4905-AB99-F17027E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2260-BF3B-49E2-8B7B-CFADEC03C45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5163-8682-49BE-96A1-3B2FD364C46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" TargetMode="External"/><Relationship Id="rId2" Type="http://schemas.openxmlformats.org/officeDocument/2006/relationships/hyperlink" Target="http://fab.sierracollege.edu/Projects/Ethics/Ethics%20Lesson%20Plan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106668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What are ethic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79132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Californian FB"/>
              </a:rPr>
              <a:t>PowerPoint compiled by:</a:t>
            </a:r>
            <a:r>
              <a:rPr b="0" lang="en-US" sz="1400" spc="-1" strike="noStrike">
                <a:solidFill>
                  <a:srgbClr val="336666"/>
                </a:solidFill>
                <a:latin typeface="Californian FB"/>
              </a:rPr>
              <a:t>                                                                                                                                                   Mrs. Tracy Kern, Harrisburg Family and Consumer Science Teacher, Harrisburg, SD.   Fall 2007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fornian FB"/>
              </a:rPr>
              <a:t>Eth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A system of moral princip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Study of values, of how we ought to l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Denotes systematic, rational reflection upon a particular behav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fornian FB"/>
              </a:rPr>
              <a:t>Definition taken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Ethics.”  2006.  AboutDictionary.com. 3 Sep 2007. &lt;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Californian FB"/>
                <a:hlinkClick r:id="rId1"/>
              </a:rPr>
              <a:t>http://dictionary.reference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fornian FB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90440"/>
            <a:ext cx="7162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fornian FB"/>
              </a:rPr>
              <a:t>Val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The ideals, customs, institutions of a society toward which the people of the group have an affective reg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Values may be positive, as cleanliness, freedom, o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Values may be negative, as cruelty, crime, or blasphemy.</a:t>
            </a: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fornian FB"/>
              </a:rPr>
              <a:t>Definition taken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Ethics.”  2006.  AboutDictionary.com. 3 Sep 2007. 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Californian FB"/>
                <a:hlinkClick r:id="rId1"/>
              </a:rPr>
              <a:t>http://dictionary.referenc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Everyone Else Does It!”  Finance and Business.  Sierra Community College.  28 Aug 2007. &lt;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Californian FB"/>
                <a:hlinkClick r:id="rId2"/>
              </a:rPr>
              <a:t>http://fab.sierracollege.edu/Projects/Ethics/Ethics%20Lesson%20Plan.htm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90440"/>
            <a:ext cx="7162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fornian FB"/>
              </a:rPr>
              <a:t>Mor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Distinction between right vs. wro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fornian FB"/>
              </a:rPr>
              <a:t>Concerned with the principles or rules of right con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fornian FB"/>
              </a:rPr>
              <a:t>Definition taken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Morals.”  2006.  AboutDictionary.com. 3 Sep 2007. &lt;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Californian FB"/>
                <a:hlinkClick r:id="rId1"/>
              </a:rPr>
              <a:t>http://dictionary.reference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fornian FB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90440"/>
            <a:ext cx="8458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Top Ten Questions You Should Ask Yourself When Making an Ethical Dec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Could the decision become habit form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If so, don’t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Is it Leg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If it isn't, don’t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Is it saf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If it isn’t, don’t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Top Ten Questions You Should Ask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Yourself When Making an Ethical Dec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Is it the right thing to 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 is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Will this stand the test of public scrutin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 wo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If something terrible were to happen could I defend my ac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you ca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Top Ten Questions You Should Ask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Yourself When Making an Ethical Dec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Is it just, balanced, and fai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 is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How will it make me feel about myself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’s lousy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Does this choice lead to the greatest good for the greatest numb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fornian FB"/>
              </a:rPr>
              <a:t>If it doesn’t, don’t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Top Ten Questions You Should Ask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alifornian FB"/>
              </a:rPr>
              <a:t>Yourself When Making an Ethical Dec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Would you do this in front of an adult that you respec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fornian FB"/>
              </a:rPr>
              <a:t>If you wouldn’t, don’t d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105520"/>
            <a:ext cx="883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Californian FB"/>
              </a:rPr>
              <a:t>Taken from:</a:t>
            </a:r>
            <a:r>
              <a:rPr b="0" lang="en-US" sz="1600" spc="-1" strike="noStrike">
                <a:solidFill>
                  <a:srgbClr val="336666"/>
                </a:solidFill>
                <a:latin typeface="Californian FB"/>
              </a:rPr>
              <a:t>                                                                                                                                                                                                                                 Hopper, Carolyn.  “Top Ten Questions You Should Ask Yourself When Making an Ethical Decision.”       (1998).  University 101 Instructor’s Resource Manual Middle Tennessee State University.  http://www.mtsu.edu/~u101irm/ethicques.html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0:41:34Z</dcterms:created>
  <dc:creator>admingg</dc:creator>
  <dc:description/>
  <dc:language>en-US</dc:language>
  <cp:lastModifiedBy>admingg</cp:lastModifiedBy>
  <dcterms:modified xsi:type="dcterms:W3CDTF">2008-07-24T16:19:44Z</dcterms:modified>
  <cp:revision>8</cp:revision>
  <dc:subject/>
  <dc:title>What is ethic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